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955-C51F-4AB3-B36C-5A1638B6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068-0CA9-4376-BB20-A257B916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C1E-3E11-4386-990A-C66F71CD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256-C837-47C5-AF81-C01ABB4B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DBA-278F-4DDE-A29A-03590CD0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B6D-7C89-4631-9BD3-34F382EC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603-7A4F-4A1F-ABDF-64AC216B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7AB-724A-4DFF-B235-C1931B5C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5F3-22AB-4295-A32F-A3E15057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5E4-E82C-414F-A48C-D35F27D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7B2-9CB1-4C5A-8C58-B2F1CC2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212-AB25-4196-B3D9-3E9FA98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3B4-E72B-4105-B849-1D90D52D5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tu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Ens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3200400" cy="2496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3124080" cy="23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429000" y="4800600"/>
            <a:ext cx="198108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662280" y="228600"/>
            <a:ext cx="1731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fort is the capital of Kentuc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5120" y="2679840"/>
            <a:ext cx="52578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hood and M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, 17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we stand, divided w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Bi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tucky’s state bird is the Ca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152280"/>
            <a:ext cx="1338120" cy="140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152280"/>
            <a:ext cx="12492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flower is the Golden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105160" cy="297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1676520" cy="1289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18223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46:26Z</dcterms:created>
  <dc:creator>Mother of Divine Grace</dc:creator>
  <dc:description/>
  <dc:language>en-US</dc:language>
  <cp:lastModifiedBy>Mother of Divine Grace</cp:lastModifiedBy>
  <dcterms:modified xsi:type="dcterms:W3CDTF">2012-05-10T14:40:10Z</dcterms:modified>
  <cp:revision>2</cp:revision>
  <dc:subject/>
  <dc:title>Slide 1</dc:title>
</cp:coreProperties>
</file>